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775A8-2E3C-4E4E-9BFD-478553DD82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1D424-753F-40BE-964D-240047CAE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8D3AC-10A9-4FD3-8DF3-610D508E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97CE8-0581-43DD-83FA-BFB83DF090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3A2CF-946A-45A5-B667-D5DFA5CFC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E041E-5C3B-4D1A-8737-DAD679EF9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B7E69-B64B-4A56-AE29-5010251CD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74660-0AC1-459C-9D50-7090152E1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A8AF5-E438-4D88-BFD9-CFA4B9134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117C3-771F-4F7B-A16D-2A42357BE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AAC78-6379-4971-B653-FE5003724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ED763-28A7-40B4-8BA1-C4F3E0668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B3265-DBF5-4565-8C44-9D44E4870CE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七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标本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痰标本前应向患者介绍操作的目的、注意事项以及配合要点，使其了解操作过程，并能配合护士顺利完成采集工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标本时应做到操作规范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痰标本时，嘱患者勿将唾液、漱口水、鼻涕混入痰标本中，以免检查结果出现误差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果患者伤口疼痛，无法咳嗽、咳痰，可用软枕或手掌按压住伤口两侧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咽拭子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从咽部或扁桃体采集分泌物作细菌培养或病毒分离，协助临床诊断、治疗和护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临床诊断和目前的病情、治疗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一般情况、理解接受能力及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进食时间，避免在进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内采集标本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咽拭子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（详见教材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咽拭子时，应尽量避免在患者进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内采集。采集时动作要轻、快、稳，防止引起患者不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若采集咽拭子时，无菌棉签碰触到患者口腔的其他部位，必须要更换棉签重新采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静脉血标本采集  全血标本、血清标本、血培养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动脉血标本采集  血气分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一般情况、诊断和目前治疗情况、理解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需要做的检查项目，决定采血量及是否需特殊准备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是否了解检查项目、注意事项以及饮食要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穿刺部位皮肤、血管状况和肢体活动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选择采血部位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静脉血标本采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动脉血标本采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4568760" y="3141720"/>
            <a:ext cx="41068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整理床单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标本送检，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56760" y="836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执行三查八对制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应在患者安静状态下采集血液标本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如需做血液生化类检查，应提前告知采血时空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取全血标本后，摇晃试管要及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血培养标本时，应严格执行无菌技术操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血清标本时，采集用品应保持绝对干燥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使用真空采血法采血前，不可松动真空采血管的管塞，避免负压消失或不足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尿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69192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常规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2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培养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病情、诊断和治疗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需做的检查项目和目的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意识状态及其排尿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心理状态、理解能力及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尿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6760" y="907920"/>
            <a:ext cx="847404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收集尿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整理床单位，处理用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标本送检，洗手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尿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56760" y="907920"/>
            <a:ext cx="847404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会阴部位分泌物较多时，应先清洁或冲洗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女性做早孕诊断试验时应留取晨尿，检查结果更精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尿培养标本时，应严格执行无菌技术操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粪便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7584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常规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隐血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临床诊断、病情和治疗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意识状态、排便状况及其自理能力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理解能力、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356400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寄生虫及虫卵标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粪培养标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概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各种常用标本的采集方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粪便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584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前用屏风或拉帘遮挡患者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收集粪便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整理床单位、处理用物、送检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粪便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7584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隐血粪标本时，嘱患者从检查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禁食肉类、动物肝脏、血制品以及含铁丰富的食物、绿叶蔬菜和药物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后方可采集，以免造成假阳性检验结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寄生虫标本时，如患者服用驱虫药或者做血吸虫孵化检查，应该留取全部粪便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做阿米巴原虫检查时，在采集标本前几天，应嘱患者禁服钡剂、油质或含金属的泻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患者腹泻水样便，标本应采集到容器中，便于送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75840" y="1195200"/>
            <a:ext cx="8474040" cy="58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做尿常规检查时留取尿标本最合适的时间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饭前半小时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全天均可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早晨第一次尿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睡前收集尿液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饭后半小时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75840" y="1195200"/>
            <a:ext cx="8474040" cy="58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动脉血标本采集的主要目的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做血液气体分析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肝功能   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红细胞沉降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血糖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血氨含量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标本采集的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标本采集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痰标本、血液标本、尿液标本、粪便标本的类型及其采集目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标本采集时常用防腐剂的名称、作用及用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变换卧位的目的及操作中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识别医院常见的不安全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保护具使用的目的及操作中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规程，进行痰标本、咽拭子标本、血液标本、尿液标本、粪便标本的采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概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56760" y="90756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标本采集的意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25800" indent="-3258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标本采集的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遵照医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采集前做好充分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确采集标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送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各种常用标本的采集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56760" y="90756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痰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咽拭子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液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液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粪便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常规痰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痰培养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一般情况、临床诊断、病区和治疗情况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检查目的，采集标本的种类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神志状况，理解和接受能力，合作程度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收集痰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协助患者漱口或进行口腔护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手、摘手套口罩，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整理用物，标本送检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8:33:06Z</dcterms:modified>
  <cp:revision>188</cp:revision>
  <dc:subject/>
  <dc:title>内科护理学</dc:title>
</cp:coreProperties>
</file>